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8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8.png" ContentType="image/png"/>
  <Override PartName="/ppt/media/image13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27D-F925-40C8-95E3-92BD29F1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8484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C316-48A2-4155-B85A-0CA5E0D5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8484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8484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B381-FF3B-4ABD-BD15-4CAA9EEB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48428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48428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8484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8484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8484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6595-F36F-4990-B05E-8A505282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484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19E-FDDF-4367-8676-4300BB25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7796-4F14-4D83-801A-33618973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7C3-D3D8-4CFD-8BFF-77522B83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F39D-8795-42F9-86AB-FEB48E7E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8E1-717D-4A12-BE48-DAE28C66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8484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ED9-B164-4773-A005-34B9DD7F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8484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D9B-BFE2-463F-8F00-85867356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48428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8484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462F-C68C-4B68-BE7D-F6776208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484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197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701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197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197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701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197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7019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197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197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197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8928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660066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9440" y="638136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c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710560" y="244440"/>
            <a:ext cx="687600" cy="8809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07960" y="1197000"/>
            <a:ext cx="8890200" cy="730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666480" y="6381720"/>
            <a:ext cx="2904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333399"/>
                </a:solidFill>
                <a:latin typeface="Arial"/>
              </a:rPr>
              <a:t>Mobile Distillery : accelerate Java application time-to-mar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image" Target="../media/image32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image" Target="../media/image33.jpeg"/><Relationship Id="rId10" Type="http://schemas.openxmlformats.org/officeDocument/2006/relationships/image" Target="../media/image6.jpeg"/><Relationship Id="rId11" Type="http://schemas.openxmlformats.org/officeDocument/2006/relationships/image" Target="../media/image34.jpeg"/><Relationship Id="rId1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880" y="2708280"/>
            <a:ext cx="97059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660066"/>
                </a:solidFill>
                <a:latin typeface="Arial"/>
              </a:rPr>
              <a:t>Accelerating Mobile Application Time-to-Market</a:t>
            </a:r>
            <a:br>
              <a:rPr sz="2600"/>
            </a:br>
            <a:r>
              <a:rPr b="1" lang="fr-FR" sz="2600" spc="-1" strike="noStrike">
                <a:solidFill>
                  <a:srgbClr val="660066"/>
                </a:solidFill>
                <a:latin typeface="Arial"/>
              </a:rPr>
              <a:t>-</a:t>
            </a:r>
            <a:br>
              <a:rPr sz="2600"/>
            </a:br>
            <a:r>
              <a:rPr b="1" lang="fr-FR" sz="2600" spc="-1" strike="noStrike">
                <a:solidFill>
                  <a:srgbClr val="660066"/>
                </a:solidFill>
                <a:latin typeface="Arial"/>
              </a:rPr>
              <a:t>Palo Alto, 18/10/07 </a:t>
            </a:r>
            <a:br>
              <a:rPr sz="2600"/>
            </a:br>
            <a:endParaRPr b="1" lang="en-US" sz="2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76200" y="260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6600"/>
                </a:solidFill>
                <a:latin typeface="Arial"/>
              </a:rPr>
              <a:t>Mobile Distille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51840" y="4724280"/>
            <a:ext cx="1127160" cy="122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68760" y="4653000"/>
            <a:ext cx="1122480" cy="1297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826320" y="4724280"/>
            <a:ext cx="1122120" cy="122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493560" y="562752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6600"/>
                </a:solidFill>
                <a:latin typeface="Arial"/>
              </a:rPr>
              <a:t>www.mobile-distille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429080" y="4582080"/>
            <a:ext cx="1136160" cy="1583640"/>
            <a:chOff x="4429080" y="4582080"/>
            <a:chExt cx="1136160" cy="1583640"/>
          </a:xfrm>
        </p:grpSpPr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 rot="1261200">
              <a:off x="4849560" y="4923720"/>
              <a:ext cx="461880" cy="504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2" name="" descr=""/>
            <p:cNvPicPr/>
            <p:nvPr/>
          </p:nvPicPr>
          <p:blipFill>
            <a:blip r:embed="rId5"/>
            <a:stretch/>
          </p:blipFill>
          <p:spPr>
            <a:xfrm rot="1261200">
              <a:off x="4665240" y="4653000"/>
              <a:ext cx="663480" cy="1441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6824520" y="4653000"/>
            <a:ext cx="1152720" cy="13208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8121600" y="4653000"/>
            <a:ext cx="1224000" cy="1316160"/>
            <a:chOff x="8121600" y="4653000"/>
            <a:chExt cx="1224000" cy="1316160"/>
          </a:xfrm>
        </p:grpSpPr>
        <p:pic>
          <p:nvPicPr>
            <p:cNvPr id="55" name="" descr=""/>
            <p:cNvPicPr/>
            <p:nvPr/>
          </p:nvPicPr>
          <p:blipFill>
            <a:blip r:embed="rId7"/>
            <a:stretch/>
          </p:blipFill>
          <p:spPr>
            <a:xfrm>
              <a:off x="8121600" y="4653000"/>
              <a:ext cx="1224000" cy="13161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56" name=""/>
            <p:cNvGraphicFramePr/>
            <p:nvPr/>
          </p:nvGraphicFramePr>
          <p:xfrm>
            <a:off x="8175600" y="4789800"/>
            <a:ext cx="902880" cy="264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175600" y="4789800"/>
                      <a:ext cx="902880" cy="26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188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Mobile Distillery</a:t>
            </a: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3680" y="1268280"/>
            <a:ext cx="90885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0066"/>
                </a:solidFill>
                <a:latin typeface="Arial"/>
              </a:rPr>
              <a:t>Porting mobile applications</a:t>
            </a: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660066"/>
                </a:solidFill>
                <a:latin typeface="Arial"/>
              </a:rPr>
              <a:t>to more than 650 phones, Europe &amp; US</a:t>
            </a:r>
            <a:endParaRPr b="0" lang="en-US" sz="2800" spc="-1" strike="noStrike">
              <a:solidFill>
                <a:srgbClr val="70197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1440" y="2563920"/>
            <a:ext cx="936144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4520" y="188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Arial"/>
              </a:rPr>
              <a:t>Company info</a:t>
            </a: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981000"/>
            <a:ext cx="9705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Arial"/>
              </a:rPr>
              <a:t>16 people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Arial"/>
              </a:rPr>
              <a:t>Based in Marseilles, </a:t>
            </a:r>
            <a:br>
              <a:rPr sz="2000"/>
            </a:br>
            <a:r>
              <a:rPr b="0" lang="fr-FR" sz="2000" spc="-1" strike="noStrike">
                <a:solidFill>
                  <a:srgbClr val="660066"/>
                </a:solidFill>
                <a:latin typeface="Arial"/>
              </a:rPr>
              <a:t>&amp; Paris, France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Arial"/>
              </a:rPr>
              <a:t>6 years technology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Arial"/>
              </a:rPr>
              <a:t>Business angels (350K$)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Arial"/>
              </a:rPr>
              <a:t>3 M$ Funds rising VC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Arial"/>
              </a:rPr>
              <a:t>Selected by Under The Radar | Mobility 2007 amongs 32 companies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197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Arial"/>
              </a:rPr>
              <a:t>&gt; Porting mobile applications across multiple phones:</a:t>
            </a:r>
            <a:r>
              <a:rPr b="1" lang="fr-FR" sz="2000" spc="-1" strike="noStrike">
                <a:solidFill>
                  <a:srgbClr val="660066"/>
                </a:solidFill>
                <a:latin typeface="Arial"/>
              </a:rPr>
              <a:t> Celsius V4</a:t>
            </a:r>
            <a:r>
              <a:rPr b="0" lang="fr-FR" sz="2000" spc="-1" strike="noStrike">
                <a:solidFill>
                  <a:srgbClr val="660066"/>
                </a:solidFill>
                <a:latin typeface="Arial"/>
              </a:rPr>
              <a:t> solution 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0066"/>
                </a:solidFill>
                <a:latin typeface="Arial"/>
              </a:rPr>
              <a:t>Customers: Amadeus (F), Mappy (F), Overblog (F), Goojet (F), Mobilysim (F), Miyowa (F), Visiware (F), Anxa (philippins), W+ (China), Kuju (UK), IP4U (F), Exkee (F), Axellance (F), Recreate (India), JumpGames (India), Touchlink (Ukraine), …</a:t>
            </a:r>
            <a:br>
              <a:rPr sz="1800"/>
            </a:b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1979"/>
                </a:solidFill>
                <a:latin typeface="Arial"/>
              </a:rPr>
              <a:t>&gt; Partnerships :</a:t>
            </a: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701979"/>
                </a:solidFill>
                <a:latin typeface="Arial"/>
              </a:rPr>
              <a:t>INRIA, Philips/NXP, INSIDE Contactless, Orange, SFR, Bouygues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82160" y="2271600"/>
            <a:ext cx="1639800" cy="1228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282160" y="1262160"/>
            <a:ext cx="1638000" cy="123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0" t="0" r="0" b="18750"/>
          <a:stretch/>
        </p:blipFill>
        <p:spPr>
          <a:xfrm>
            <a:off x="4105440" y="1236600"/>
            <a:ext cx="4160520" cy="22464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000160" y="3833640"/>
            <a:ext cx="736560" cy="6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200" y="25992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Arial"/>
              </a:rPr>
              <a:t>Latest applications done with Celsius</a:t>
            </a: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329600" y="5051520"/>
            <a:ext cx="1216080" cy="1333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1800" y="5013360"/>
            <a:ext cx="1100160" cy="1343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84520" y="5025960"/>
            <a:ext cx="109368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2936880" y="5029200"/>
            <a:ext cx="1112760" cy="13748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992160" y="1557360"/>
            <a:ext cx="1211400" cy="1506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2287440" y="1560600"/>
            <a:ext cx="1204920" cy="1500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584520" y="1566720"/>
            <a:ext cx="1204920" cy="1513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1496880" y="3387600"/>
            <a:ext cx="1128960" cy="1409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2665440" y="3371760"/>
            <a:ext cx="1135080" cy="1425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5457960" y="1571760"/>
            <a:ext cx="1257120" cy="1492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6754680" y="1566720"/>
            <a:ext cx="1265400" cy="1478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4448160" y="3362400"/>
            <a:ext cx="1197000" cy="1420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3"/>
          <a:stretch/>
        </p:blipFill>
        <p:spPr>
          <a:xfrm>
            <a:off x="5705640" y="3357720"/>
            <a:ext cx="1190520" cy="1406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4"/>
          <a:stretch/>
        </p:blipFill>
        <p:spPr>
          <a:xfrm>
            <a:off x="6969240" y="3357720"/>
            <a:ext cx="1190520" cy="1406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5"/>
          <a:stretch/>
        </p:blipFill>
        <p:spPr>
          <a:xfrm>
            <a:off x="4737240" y="5048280"/>
            <a:ext cx="1224000" cy="1326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6"/>
          <a:stretch/>
        </p:blipFill>
        <p:spPr>
          <a:xfrm>
            <a:off x="6024600" y="5056200"/>
            <a:ext cx="1224000" cy="1347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52520" y="12682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siware/Exk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29240" y="12682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esse/Kuj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59400" y="31240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k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68520" y="312408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4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84880" y="4797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re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9240" y="479736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zar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448200" y="1886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in Business &amp; Marketing Applications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5440" y="134136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Amadeus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Mappy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Overblog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Atos Worldline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Credit Agricole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323120" y="3429000"/>
            <a:ext cx="1504800" cy="17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32920" y="4365720"/>
            <a:ext cx="1515960" cy="172728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4808520" y="3429000"/>
            <a:ext cx="1496880" cy="1747800"/>
            <a:chOff x="4808520" y="3429000"/>
            <a:chExt cx="1496880" cy="174780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4808520" y="3429000"/>
              <a:ext cx="1496880" cy="1747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6" name=""/>
            <p:cNvGraphicFramePr/>
            <p:nvPr/>
          </p:nvGraphicFramePr>
          <p:xfrm>
            <a:off x="4874760" y="3610800"/>
            <a:ext cx="1104120" cy="351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4760" y="3610800"/>
                      <a:ext cx="1104120" cy="3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8" name=""/>
          <p:cNvGrpSpPr/>
          <p:nvPr/>
        </p:nvGrpSpPr>
        <p:grpSpPr>
          <a:xfrm>
            <a:off x="5816520" y="4370400"/>
            <a:ext cx="1441440" cy="1650960"/>
            <a:chOff x="5816520" y="4370400"/>
            <a:chExt cx="1441440" cy="1650960"/>
          </a:xfrm>
        </p:grpSpPr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5816520" y="4370400"/>
              <a:ext cx="1441440" cy="16509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00" name=""/>
            <p:cNvGraphicFramePr/>
            <p:nvPr/>
          </p:nvGraphicFramePr>
          <p:xfrm>
            <a:off x="6019560" y="4565160"/>
            <a:ext cx="1053360" cy="331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9560" y="4565160"/>
                      <a:ext cx="1053360" cy="331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616880" y="1341360"/>
            <a:ext cx="1531800" cy="2041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5961240" y="1341360"/>
            <a:ext cx="1530000" cy="2040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52240" y="45338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560520" y="3357720"/>
            <a:ext cx="4114800" cy="29718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159000" y="1052640"/>
            <a:ext cx="2370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Webraska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Prylos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Altexia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Mobilysim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CubeX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Anyware tech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58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Arial"/>
              </a:rPr>
              <a:t>Marseilles for MD : a ROI choice</a:t>
            </a: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76000" y="1125000"/>
            <a:ext cx="9777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1979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1. Grants: 600+K$    =&gt;   leave maximum Capital to founders </a:t>
            </a:r>
            <a:br>
              <a:rPr sz="2400"/>
            </a:b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Grant appliance: conversative business plan, fit with competitive cluster, recruiting nbr of employees, R&amp;D/Innovation, …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197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2. ROI     =&gt;  Standards of living in Marseilles 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- compare to Paris : -30% wages, -20% m2, …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- strong echosystem in Mobile businesses for partnerships</a:t>
            </a:r>
            <a:br>
              <a:rPr sz="2400"/>
            </a:b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3. Recruitment     =&gt;  Skilled &amp; international professionals </a:t>
            </a:r>
            <a:br>
              <a:rPr sz="2400"/>
            </a:b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                                  + Universities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4. Quality of life !  including international transportation !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856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Innovation / Competitive Clusters: </a:t>
            </a:r>
            <a:br>
              <a:rPr sz="3200"/>
            </a:b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   a worldwide competitive advantage 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4160" y="1412640"/>
            <a:ext cx="9705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WW Competitive cluster: Secured Communication Solutions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Large companies, SMEs, Research centers, universities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Technologies (in Telecom/Mobile) &amp; Content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01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1979"/>
                </a:solidFill>
                <a:latin typeface="Arial"/>
              </a:rPr>
              <a:t>Networking &amp; building synergies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Grants for shared projects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197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« PACA Mobile Center » initiative : 300K$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0197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1979"/>
                </a:solidFill>
                <a:latin typeface="Arial"/>
              </a:rPr>
              <a:t>Dedicated for Start-ups &amp; SMEs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0197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1979"/>
                </a:solidFill>
                <a:latin typeface="Arial"/>
              </a:rPr>
              <a:t>A big Mobile Phone Library, accessible to any company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70197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1979"/>
                </a:solidFill>
                <a:latin typeface="Arial"/>
              </a:rPr>
              <a:t>Big Competitive advantage : reduce time &amp; money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0160" y="115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Marseilles-France: some downsides ?</a:t>
            </a:r>
            <a:endParaRPr b="1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1600" y="1341000"/>
            <a:ext cx="8712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0197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Grant : late to come ? 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01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1979"/>
                </a:solidFill>
                <a:latin typeface="Arial"/>
              </a:rPr>
              <a:t>yes and no. 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01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1979"/>
                </a:solidFill>
                <a:latin typeface="Arial"/>
              </a:rPr>
              <a:t>the ‘CIR’ (tax return)  &gt;  only 2 months</a:t>
            </a:r>
            <a:br>
              <a:rPr sz="2000"/>
            </a:br>
            <a:r>
              <a:rPr b="0" lang="fr-FR" sz="2000" spc="-1" strike="noStrike">
                <a:solidFill>
                  <a:srgbClr val="70197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Employees not really motivated in Maresilles ?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701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01979"/>
                </a:solidFill>
                <a:latin typeface="Arial"/>
              </a:rPr>
              <a:t>Certainly not in our business</a:t>
            </a:r>
            <a:br>
              <a:rPr sz="2000"/>
            </a:br>
            <a:r>
              <a:rPr b="0" lang="fr-FR" sz="2000" spc="-1" strike="noStrike">
                <a:solidFill>
                  <a:srgbClr val="70197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70197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Strikes ?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Yes, but less than Paris</a:t>
            </a:r>
            <a:br>
              <a:rPr sz="1800"/>
            </a:b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7019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01979"/>
                </a:solidFill>
                <a:latin typeface="Arial"/>
              </a:rPr>
              <a:t>Capital risk in France / Marseilles ? </a:t>
            </a:r>
            <a:endParaRPr b="0" lang="en-US" sz="2400" spc="-1" strike="noStrike">
              <a:solidFill>
                <a:srgbClr val="70197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Less investors than US, but easier to negotiate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7019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01979"/>
                </a:solidFill>
                <a:latin typeface="Arial"/>
              </a:rPr>
              <a:t>Marseille: Business Angels, seed, capital risk, capital investment</a:t>
            </a: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019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ROI table for MD / Conclusion</a:t>
            </a:r>
            <a:endParaRPr b="1" lang="en-US" sz="36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48428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197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0197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1280" y="1341360"/>
          <a:ext cx="9777600" cy="5092560"/>
        </p:xfrm>
        <a:graphic>
          <a:graphicData uri="http://schemas.openxmlformats.org/drawingml/2006/table">
            <a:tbl>
              <a:tblPr/>
              <a:tblGrid>
                <a:gridCol w="4392720"/>
                <a:gridCol w="1268640"/>
                <a:gridCol w="1595160"/>
                <a:gridCol w="917640"/>
                <a:gridCol w="160344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Investing in 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Lon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Barcel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Par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Marseil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Grants / no Capital dil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Highly skilled employ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Rese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m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Technology clusters/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m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ROI : m2, wages, real estate,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Eco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Quality of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l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International transpor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.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m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701979"/>
                          </a:solidFill>
                          <a:latin typeface="Arial"/>
                        </a:rPr>
                        <a:t>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m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06:41:29Z</dcterms:created>
  <dc:creator>EricL</dc:creator>
  <dc:description/>
  <dc:language>en-US</dc:language>
  <cp:lastModifiedBy> berge</cp:lastModifiedBy>
  <dcterms:modified xsi:type="dcterms:W3CDTF">2007-10-18T20:33:09Z</dcterms:modified>
  <cp:revision>198</cp:revision>
  <dc:subject/>
  <dc:title> Solutions pour le développement et le portage  d’Applications Mobiles Java  vers de multiples téléphones mobiles  - Introduction à Celsius, confidentiel</dc:title>
</cp:coreProperties>
</file>