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D218-E045-41DE-AE04-4F502A658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otre companie sera basé a A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On a 4 partenaire essentiel aujourd’hu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Programme de development joint avec Cis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Dans les 2 dernieres années Kth a recu 2 nillion euros pour acquerir des instrument et des outils pour la production des produits spintroniq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Quelques entreprise characteristique pour vous donner une idée de la taille du march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On enleve tous les inducteurs et les remplace avec un ou plusieurs STO qui prensd beaucoup moins de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STO benefisse de la Manufacturabilité de MRAM. Le partenariat avec annelva sera essenti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Multicouche, pluseieurs metaux diffe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Je schematise un peu ici comment on arrive a un cout beaucoup plus fa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2158-F248-4D32-B5B8-1720CF8D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A3AF-6648-4D08-BD43-5B5132F3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E5F2-C7D3-4120-AA0E-C9799935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6F69-2A08-4618-8891-9BBFD351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A0B7-B933-47C6-9662-361E4F8E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D5E1-8598-471B-BD8A-397BA6E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C824-9012-4804-8DD8-2316812A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8CF1-EC1F-4B2E-BA1F-603397D4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A27A-6C14-4A13-8135-55DE1AE0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C987-B6D3-4244-8843-FBC280E4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EC06-D92F-41B0-A8E1-22E9F2E9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107-AAD8-47A2-A9CB-BF579B16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4672-914B-4A20-8901-8CCAC9C8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7837-D2B5-4A0D-98A7-CE3A99C1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CC61-D455-4683-9FBB-F5A2FEBB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99BC-127D-46F6-800F-6D957EDC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6947-19B9-46B3-9235-4B116925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815-02CE-4B4F-A03A-BF54D2BF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ED8D-146A-4447-B3C2-C97969EA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B6A-DF91-405D-9492-F7411450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4F5-C860-43D3-AD6F-6C4171E5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7E1-05AB-446D-904E-F7E47553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462-73A1-4D0F-B8D7-2796968E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027-B98A-4BA9-89E0-18A7DEAF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E0AE-4A35-4B61-837C-9E97750D20BD}" type="slidenum">
              <a:rPr b="0" lang="sv-S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Tahoma"/>
              </a:rPr>
              <a:t>SpinRoc - Confi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8E0A-B846-4EB6-ABCD-6281DDD0C014}" type="slidenum">
              <a:rPr b="0" lang="sv-SE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SpinRoc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New generation of oscillators with tunable frequenc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Low cost and optimized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674720" y="5702400"/>
            <a:ext cx="580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v-SE" sz="2400" spc="-1" strike="noStrike">
                <a:solidFill>
                  <a:srgbClr val="eaeaea"/>
                </a:solidFill>
                <a:latin typeface="Arial"/>
              </a:rPr>
              <a:t>Getting More Out of the Wireless World</a:t>
            </a:r>
            <a:r>
              <a:rPr b="0" i="1" lang="sv-SE" sz="2400" spc="-1" strike="noStrike">
                <a:solidFill>
                  <a:srgbClr val="eaeaea"/>
                </a:solidFill>
                <a:latin typeface="Symbol"/>
                <a:ea typeface="Symbol"/>
              </a:rPr>
              <a:t>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5863-EA0B-4AF1-BC6B-9AA6BF245F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eaeaea"/>
                </a:solidFill>
                <a:latin typeface="Tahoma"/>
              </a:rPr>
              <a:t>Pr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é</a:t>
            </a:r>
            <a:r>
              <a:rPr b="1" lang="sv-SE" sz="3600" spc="-1" strike="noStrike">
                <a:solidFill>
                  <a:srgbClr val="eaeaea"/>
                </a:solidFill>
                <a:latin typeface="Tahoma"/>
              </a:rPr>
              <a:t>visions – 3 an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12720" y="1946160"/>
            <a:ext cx="8496000" cy="3138120"/>
            <a:chOff x="612720" y="1946160"/>
            <a:chExt cx="8496000" cy="3138120"/>
          </a:xfrm>
        </p:grpSpPr>
        <p:sp>
          <p:nvSpPr>
            <p:cNvPr id="154" name=""/>
            <p:cNvSpPr/>
            <p:nvPr/>
          </p:nvSpPr>
          <p:spPr>
            <a:xfrm>
              <a:off x="612720" y="1946160"/>
              <a:ext cx="8496000" cy="31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688320" y="2023200"/>
              <a:ext cx="8344080" cy="29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" name=""/>
          <p:cNvSpPr/>
          <p:nvPr/>
        </p:nvSpPr>
        <p:spPr>
          <a:xfrm>
            <a:off x="2124000" y="5013360"/>
            <a:ext cx="0" cy="1511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7600" y="5172120"/>
            <a:ext cx="12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erso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6680" y="558324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Besoins k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0036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5272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0544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2908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5086440"/>
            <a:ext cx="0" cy="1438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3272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30872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46144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85080" y="5013360"/>
            <a:ext cx="0" cy="151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3960" y="601488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umul. k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51577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5      9     10     10     13     16    32    48     64    85    105   1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97080" y="55832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74   152   341   268   246 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97080" y="601488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74   226   567   835  1081 135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1640" y="5589720"/>
            <a:ext cx="331308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4 – 6 million €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B820-E8CE-424F-B2FE-98A0B0F22C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42920" y="1916280"/>
            <a:ext cx="720108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6360" y="304560"/>
            <a:ext cx="8388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000" spc="-1" strike="noStrike">
                <a:solidFill>
                  <a:srgbClr val="eaeaea"/>
                </a:solidFill>
                <a:latin typeface="Tahoma"/>
              </a:rPr>
              <a:t>Revenue / Cash Flow – 6 an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361440" y="2602080"/>
            <a:ext cx="18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venue (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€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1102680" y="4829400"/>
            <a:ext cx="244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ee Cash Flow ($ 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61440" y="5121360"/>
            <a:ext cx="187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sh Flow (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  <a:ea typeface="Arial"/>
              </a:rPr>
              <a:t>€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128000" cy="55454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020840" y="4724280"/>
            <a:ext cx="170460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apital Ris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779640" y="5013360"/>
            <a:ext cx="360360" cy="64764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D90-B9A4-4F32-B3C2-CB86C5F387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-171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200" spc="-1" strike="noStrike">
                <a:solidFill>
                  <a:srgbClr val="eaeaea"/>
                </a:solidFill>
                <a:latin typeface="Tahoma"/>
              </a:rPr>
              <a:t>SpinRoc Toda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5804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5 Peop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everal partners (French research entit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trong interactions to potential customer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mplementarity of the founding tea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Georges Lesieur (CEO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Marketing of semiconducctor products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13 Years at Gemplus in charge of Telecoms business units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Johan Åkerman (Product developme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7 ans d’expérience en électronique de spin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Responsable auprès de Freescale Semiconductor de la fiabilité des mémoires MRAM et de leur introduction sur le marché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Prix Suédois du ”Future Research Leader” pour la R&amp;D électronique de spin 2005-2011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Wim Michielsen (CTO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7 ans d’expérience dans l’architecture de produit R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Expert en design électrique d’oscillateurs Radio Frequence pour les applications mobile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Responsable ’Architecture et design électrique’ sur les produits Bluetooth auprès de la startup Spir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Tahoma"/>
              </a:rPr>
              <a:t>Kamel Ounadjela (Board member and consultant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lnSpc>
                <a:spcPct val="80000"/>
              </a:lnSpc>
              <a:spcBef>
                <a:spcPts val="2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20 ans d’expérience dans l’industrie des semiconducteurs, disques durs, électronique de spin. Responsable auprès de Cypress Semiconductor du  programme MRAM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55B-C454-46A1-BAC0-BDCBEFE2F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Stra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</a:t>
            </a: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gic lo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Prov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SpinRoc Headquarters &amp; Design Team in Ai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Pôle SC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Big RF players: Gemplus, TI, ST, Philips, Atme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Small RF players: One RF, Tagsys, Stid, Topca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Grenoble / UMR Ors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Léti/Spintec 200mm wafer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UMR (Fert): Modelling –Technology resear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ffffff"/>
                </a:solidFill>
                <a:latin typeface="Tahoma"/>
              </a:rPr>
              <a:t>Stockhol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KTH 100mm wafer process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Tahoma"/>
              </a:rPr>
              <a:t>Wireless Characteriz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592-BB07-47C5-BB9F-CB3476F85D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Partners &amp; Custom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sco – Joint Development Proje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kia – Cell Phone/Base Station V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nyEricsson – Cell Phone V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ricsson – Base stations/Microwave com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TH: 2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€ d’investissements dans les outils spintroniques dans les deux dernières anné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TI-CEA Grenoble: fabrication des waf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elva – Material on 100mm and 200mm waf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10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A – Co-development high-f dev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08F8-2323-46B0-994A-C875A4753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5640" y="115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MARKE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963800"/>
          <a:ext cx="7848360" cy="3409920"/>
        </p:xfrm>
        <a:graphic>
          <a:graphicData uri="http://schemas.openxmlformats.org/drawingml/2006/table">
            <a:tbl>
              <a:tblPr/>
              <a:tblGrid>
                <a:gridCol w="1128240"/>
                <a:gridCol w="1341720"/>
                <a:gridCol w="1153800"/>
                <a:gridCol w="1263960"/>
                <a:gridCol w="1603080"/>
                <a:gridCol w="135756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Entrepri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Technolog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Domaine de fréquen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Prix/volume mini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Commentair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66"/>
                          </a:solidFill>
                          <a:latin typeface="Agency FB"/>
                          <a:ea typeface="Arial"/>
                        </a:rPr>
                        <a:t>Revenues de RF 20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Micr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miconducte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00 – 1100MH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$/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ISM band TRX en deux puc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250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RF Micro   Devic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miconducte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.7 – 2.1GH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.65$/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LL + VCO frontend receiver for GSM, CD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634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Atme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miconducte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.5 GH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8$/1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iMAX TR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WLAN b,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160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CS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miconducte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.4 – 2.5GH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$/1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uces uniques pour Bluetoot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486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Luc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R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8 – 31 GH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0$/piec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mposants discret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Privé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Skywork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emiconducte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4 – 12 GH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$/1000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mposant discre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$770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66"/>
                          </a:solidFill>
                          <a:latin typeface="Agency FB"/>
                          <a:ea typeface="Times New Roman"/>
                        </a:rPr>
                        <a:t>SpinRo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pin-Torque (STO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 – 100 GHz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$/1000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rototypes à démontr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5516640"/>
            <a:ext cx="75438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rché des composants RF =&gt; plus de 4 Milliards d’Eu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chnologie SpinRoc s’intègre à la plupart des puces RF Valeur ajoutée =&gt; Faible cout, meilleure intégration, meilleure perform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7C4-6574-4047-A6B6-1ED6793FC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inancing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ong support from the PACA region in terms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ANCING: Local and national financing thru grants and low cost loa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port thru local clusters (SimPAC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A237-95AF-4AF2-AF51-ABB479FA2F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-2350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SpinRoc differenti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748640" cy="383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96440" y="90792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CO chip, 1.5 x 1.6 mm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55720" y="907920"/>
            <a:ext cx="288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CO chip, 0.7 x 0.8 mm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4360" y="5661000"/>
            <a:ext cx="799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Tahoma"/>
              </a:rPr>
              <a:t>1.  75% chip area (cost) reduction – main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Tahoma"/>
              </a:rPr>
              <a:t>2.  Multiple frequencies, high Q – secondary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7640" y="1123920"/>
            <a:ext cx="792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D50-DB38-4291-AF08-D331D4196B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16000" y="4437000"/>
            <a:ext cx="7488360" cy="23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1916280"/>
            <a:ext cx="2376360" cy="482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eaeaea"/>
                </a:solidFill>
                <a:latin typeface="Tahoma"/>
              </a:rPr>
              <a:t>SpinRoc Technolog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520" t="9617" r="44094" b="42316"/>
          <a:stretch/>
        </p:blipFill>
        <p:spPr>
          <a:xfrm>
            <a:off x="1403280" y="2290680"/>
            <a:ext cx="1803600" cy="2146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924360" y="4510080"/>
            <a:ext cx="4602240" cy="223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49848" r="50614" b="0"/>
          <a:stretch/>
        </p:blipFill>
        <p:spPr>
          <a:xfrm>
            <a:off x="1258920" y="4510080"/>
            <a:ext cx="2019240" cy="218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59120" y="193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32040" y="1916280"/>
            <a:ext cx="433476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Same Fabrication Process as M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Sub-micron device si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Mature Processing Technolo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1 nanosecond start/stop/switch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Ultrafast switching between ba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v-SE" sz="1800" spc="-1" strike="noStrike">
                <a:solidFill>
                  <a:srgbClr val="ffffff"/>
                </a:solidFill>
                <a:latin typeface="Tahoma"/>
              </a:rPr>
              <a:t>Very high quality oscillator (Q=18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Compare to Q=10–20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sv-SE" sz="1400" spc="-1" strike="noStrike">
                <a:solidFill>
                  <a:srgbClr val="ffffff"/>
                </a:solidFill>
                <a:latin typeface="Tahoma"/>
              </a:rPr>
              <a:t>Superior noise properti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8000" y="2205000"/>
            <a:ext cx="935280" cy="0"/>
          </a:xfrm>
          <a:prstGeom prst="line">
            <a:avLst/>
          </a:prstGeom>
          <a:ln w="93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96200" y="19162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66"/>
                </a:solidFill>
                <a:latin typeface="Tahoma"/>
              </a:rPr>
              <a:t>200 n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907600">
            <a:off x="2360160" y="3071880"/>
            <a:ext cx="1225440" cy="459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  <a:effectLst>
            <a:outerShdw dist="107932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66"/>
                </a:solidFill>
                <a:latin typeface="Tahoma"/>
              </a:rPr>
              <a:t>Win 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66"/>
                </a:solidFill>
                <a:latin typeface="Tahoma"/>
              </a:rPr>
              <a:t>Co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656800">
            <a:off x="2121840" y="5083920"/>
            <a:ext cx="1440000" cy="459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  <a:effectLst>
            <a:outerShdw dist="107932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66"/>
                </a:solidFill>
                <a:latin typeface="Tahoma"/>
              </a:rPr>
              <a:t>Win 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66"/>
                </a:solidFill>
                <a:latin typeface="Tahoma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0656800">
            <a:off x="5506560" y="5443920"/>
            <a:ext cx="1439640" cy="459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99"/>
            </a:solidFill>
            <a:miter/>
          </a:ln>
          <a:effectLst>
            <a:outerShdw dist="107932" dir="2700000" blurRad="0" rotWithShape="0">
              <a:srgbClr val="0000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66"/>
                </a:solidFill>
                <a:latin typeface="Tahoma"/>
              </a:rPr>
              <a:t>Win 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66"/>
                </a:solidFill>
                <a:latin typeface="Tahoma"/>
              </a:rPr>
              <a:t>Perform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4FE5-974B-44C8-BE04-0F1E0E017D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aeaea"/>
                </a:solidFill>
                <a:latin typeface="Tahoma"/>
              </a:rPr>
              <a:t>Cost Red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-1316" t="0" r="0" b="0"/>
          <a:stretch/>
        </p:blipFill>
        <p:spPr>
          <a:xfrm>
            <a:off x="1166760" y="1989000"/>
            <a:ext cx="7150320" cy="470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34B-D588-4A3C-8589-57A1FEAE7E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0T15:28:18Z</dcterms:created>
  <dc:creator>Johan Åkerman</dc:creator>
  <dc:description/>
  <dc:language>en-US</dc:language>
  <cp:lastModifiedBy>Kamel Ounadjela</cp:lastModifiedBy>
  <dcterms:modified xsi:type="dcterms:W3CDTF">2007-10-18T23:58:53Z</dcterms:modified>
  <cp:revision>75</cp:revision>
  <dc:subject/>
  <dc:title>Slide 1</dc:title>
</cp:coreProperties>
</file>