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7A1C-BC1F-4BD5-9097-29D72014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08CC-BE9C-44E2-8C06-8F2594572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A6CC-A790-4013-A01F-C17B893A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8F40-DA2B-4271-BF57-4B556CB9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8A95-A97F-481E-A641-BCCD3A1B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FCED-3569-41D1-A6D3-2C678A89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3F9B-1949-4C08-8F13-7E2DE7A9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ACD6-074E-40C7-9659-03624441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C74E-07A1-43FE-A874-11505035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84A3-1FD0-4958-9033-FCECE9FA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0D8A-BF9D-49E8-B6B5-6D2CFB14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B6C0-E2B0-4BC6-818A-6FF6355A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8C2F-F9E8-4E64-B40B-D2DECB25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362F-AA73-4DEB-A537-8DB47453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0CEC-8A83-44C3-8327-91A8DC88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64F7-6A34-44EE-991C-8CD129ED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968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12680" y="396252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810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968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12680" y="4878360"/>
            <a:ext cx="2109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47CC-8467-481E-A853-39A17EB9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E969-85C6-43F3-8747-288959E6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B740-0572-4C71-90A9-FF96516F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3D25-4D22-4D9A-AB81-185E31A7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1523520"/>
            <a:ext cx="7623000" cy="81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986F-8AB2-46D9-8F23-A5211B27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F1DF-639E-4B70-99B2-6DAB2F13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9160" y="487836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5766-44E6-4646-AAF4-09663431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8108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9160" y="3962520"/>
            <a:ext cx="31978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81080" y="4878360"/>
            <a:ext cx="65534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ED16-6AF9-4F35-BA48-7AF80DFB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04DA-25B2-4894-A51C-022AD40048F5}" type="slidenum">
              <a:rPr b="0" lang="fr-F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E01A-BCC4-4C63-9991-75DD6C6BDCF9}" type="slidenum">
              <a:rPr b="0" lang="fr-F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595008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6633"/>
                </a:solidFill>
                <a:latin typeface="Arial"/>
                <a:ea typeface="宋体"/>
              </a:rPr>
              <a:t>Human Resource Management In Provenc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0920" y="2514240"/>
            <a:ext cx="800100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hy did I choose to start my business in Provenc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vence’s assets in terms of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rench Labor Perspec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6633"/>
                </a:solidFill>
                <a:latin typeface="Arial"/>
                <a:ea typeface="宋体"/>
              </a:rPr>
              <a:t>Human Resource Management In Provenc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French Labor marke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Perspectives as per President’s Sarkozy’s intention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: (cont’d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mplify work contr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courage senior workers to work until retirement age (thus lightening the cost of retir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unnel long term unemployed people into jobs that cannot find candid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ighten taxes for companies and entrepren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mprove train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6633"/>
                </a:solidFill>
                <a:latin typeface="Arial"/>
                <a:ea typeface="宋体"/>
              </a:rPr>
              <a:t>Human Resource Management In Provenc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77336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What I can offer in terms of HR Servic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ordinate personnel relocation from the US (including international school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ordinate establishment of French contr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affing and Recr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pose and establish such policies as :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ensation &amp;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kills Development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042920" y="1557360"/>
          <a:ext cx="7561440" cy="37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557360"/>
                    <a:ext cx="7561440" cy="37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755640" y="1268280"/>
            <a:ext cx="7920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6633"/>
                </a:solidFill>
                <a:latin typeface="Arial"/>
                <a:ea typeface="宋体"/>
              </a:rPr>
              <a:t>Human Resource Management In Provenc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Why did I choose a Provence bas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rong presence of innovative high-tech busi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 very international region, including several international sch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asy travelling to rest of the world (Fast train TGV, Highways and Marignane airpor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credible weather and amazing scen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asy to attract talent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n internationally minded business life in a great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6633"/>
                </a:solidFill>
                <a:latin typeface="Arial"/>
                <a:ea typeface="宋体"/>
              </a:rPr>
              <a:t>Human Resource Management In Provenc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rovence’s assets in terms of Lab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395280" y="333360"/>
            <a:ext cx="8534520" cy="5943600"/>
            <a:chOff x="395280" y="333360"/>
            <a:chExt cx="8534520" cy="594360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395280" y="333360"/>
              <a:ext cx="853452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 txBox="1"/>
            <p:nvPr/>
          </p:nvSpPr>
          <p:spPr>
            <a:xfrm>
              <a:off x="395280" y="333360"/>
              <a:ext cx="8534520" cy="594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68360" y="333360"/>
            <a:ext cx="8424720" cy="12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6633"/>
                </a:solidFill>
                <a:latin typeface="Arial"/>
              </a:rPr>
              <a:t>Cost of Labor</a:t>
            </a:r>
            <a:r>
              <a:rPr b="0" lang="fr-FR" sz="1800" spc="-1" strike="noStrike">
                <a:solidFill>
                  <a:srgbClr val="006633"/>
                </a:solidFill>
                <a:latin typeface="Arial"/>
              </a:rPr>
              <a:t>  (Salary Cost + Cost of housing) </a:t>
            </a:r>
            <a:r>
              <a:rPr b="0" lang="fr-FR" sz="1400" spc="-1" strike="noStrike">
                <a:solidFill>
                  <a:srgbClr val="006633"/>
                </a:solidFill>
                <a:latin typeface="Arial"/>
              </a:rPr>
              <a:t>April ‘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3141720"/>
            <a:ext cx="5032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10108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3400" spc="-1" strike="noStrike">
                <a:solidFill>
                  <a:srgbClr val="006633"/>
                </a:solidFill>
                <a:latin typeface="Arial"/>
              </a:rPr>
              <a:t>Low Labor Cos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71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80880" y="1447920"/>
          <a:ext cx="8153280" cy="2971080"/>
        </p:xfrm>
        <a:graphic>
          <a:graphicData uri="http://schemas.openxmlformats.org/drawingml/2006/table">
            <a:tbl>
              <a:tblPr/>
              <a:tblGrid>
                <a:gridCol w="4242240"/>
                <a:gridCol w="3911040"/>
              </a:tblGrid>
              <a:tr h="60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nginee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chnicia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T, Telecoms, Microelectronics …)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T, Telecoms, Microelectronics …)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000 euros/year/ beginn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000 euros/year/ beginn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000 euros/year/ 5-10 yrs experien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000 euros/year/ 5-10 yrs experienc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0" y="41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4497480"/>
            <a:ext cx="815364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Arial"/>
              </a:rPr>
              <a:t>Source: Insee – April ‘06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young &amp; well trained pop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tractive Environnement + quality lifesty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rance’s 2nd center for R&amp;D (2.2 mio€ budget/15,000 employees)  &amp; University tea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932360" y="4267080"/>
            <a:ext cx="3672000" cy="1681200"/>
          </a:xfrm>
          <a:prstGeom prst="foldedCorner">
            <a:avLst>
              <a:gd name="adj" fmla="val 125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4419720"/>
            <a:ext cx="3888000" cy="1511280"/>
          </a:xfrm>
          <a:prstGeom prst="foldedCorner">
            <a:avLst>
              <a:gd name="adj" fmla="val 125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00280" y="252360"/>
            <a:ext cx="45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65560" y="4274280"/>
            <a:ext cx="309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00"/>
                </a:solidFill>
                <a:latin typeface="Arial"/>
              </a:rPr>
              <a:t>E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le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périeure d'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génieurs de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mi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100 engineers/year)             </a:t>
            </a: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http://www.esil.univ-mrs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T (50 engineers/year)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487040"/>
            <a:ext cx="396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00"/>
                </a:solidFill>
                <a:latin typeface="Arial"/>
              </a:rPr>
              <a:t>Centrale Marse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 merger of several regional engineering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150 engineers/yea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formation &amp; Communication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dustrial IT, networks &amp; telemunication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http://www.itii-paca.com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849920" y="2286000"/>
            <a:ext cx="3816360" cy="1807200"/>
            <a:chOff x="4849920" y="2286000"/>
            <a:chExt cx="3816360" cy="1807200"/>
          </a:xfrm>
        </p:grpSpPr>
        <p:sp>
          <p:nvSpPr>
            <p:cNvPr id="108" name=""/>
            <p:cNvSpPr/>
            <p:nvPr/>
          </p:nvSpPr>
          <p:spPr>
            <a:xfrm>
              <a:off x="4849920" y="2286000"/>
              <a:ext cx="3672000" cy="1726920"/>
            </a:xfrm>
            <a:prstGeom prst="foldedCorner">
              <a:avLst>
                <a:gd name="adj" fmla="val 12500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49920" y="2356560"/>
              <a:ext cx="3816360" cy="17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cc0000"/>
                  </a:solidFill>
                  <a:latin typeface="Arial"/>
                </a:rPr>
                <a:t>E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cole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P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olytechnique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U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niversitaire de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Marseil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(80 engineers/year </a:t>
              </a: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www.polytech-marseille.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b812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IT &amp; Industrial Sciences  (30 &amp; 10 engineers/year)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b812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Microelectronics &amp; Telecommun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b812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Mecanics &amp; Ener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b812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52280" y="1446120"/>
            <a:ext cx="885348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buClr>
                <a:srgbClr val="3b812f"/>
              </a:buClr>
              <a:buSzPct val="120000"/>
              <a:buFont typeface="Monotype Sorts" charset="2"/>
              <a:buChar char="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3 universities and 9 engineering schools, 80 000 stud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3b812f"/>
              </a:buClr>
              <a:buSzPct val="120000"/>
              <a:buFont typeface="Monotype Sorts" charset="2"/>
              <a:buChar char="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4 IT engineering school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260280"/>
            <a:ext cx="78105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6633"/>
                </a:solidFill>
                <a:latin typeface="Arial"/>
              </a:rPr>
              <a:t>Training &amp; education :</a:t>
            </a:r>
            <a:br>
              <a:rPr sz="3400"/>
            </a:b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fr-FR" sz="2900" spc="-1" strike="noStrike">
                <a:solidFill>
                  <a:srgbClr val="3b812f"/>
                </a:solidFill>
                <a:latin typeface="Arial"/>
              </a:rPr>
              <a:t>A young &amp; well trained popul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2286000"/>
            <a:ext cx="3961080" cy="1871640"/>
          </a:xfrm>
          <a:prstGeom prst="foldedCorner">
            <a:avLst>
              <a:gd name="adj" fmla="val 1250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8480" y="2362320"/>
            <a:ext cx="38894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cc0000"/>
                </a:solidFill>
                <a:latin typeface="Arial"/>
              </a:rPr>
              <a:t>IAA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st Internet Scool in Fr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seignement sur les usages et les services liés à l’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stitut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ancé des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plications de l’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22 engineers/year)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http://www.iaai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génierie et industrie des cont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merce électronique et entreprise (e-commer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b812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gistique et transport intelli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467600">
            <a:off x="4260600" y="4038480"/>
            <a:ext cx="609480" cy="228600"/>
          </a:xfrm>
          <a:prstGeom prst="leftRightArrow">
            <a:avLst>
              <a:gd name="adj1" fmla="val 50000"/>
              <a:gd name="adj2" fmla="val 5307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00280" y="252360"/>
            <a:ext cx="45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28600" y="2895120"/>
            <a:ext cx="88711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700" spc="-1" strike="noStrike" u="sng">
                <a:solidFill>
                  <a:srgbClr val="000000"/>
                </a:solidFill>
                <a:uFillTx/>
                <a:latin typeface="Arial"/>
              </a:rPr>
              <a:t>Deep knowledge in several field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Embarked &amp; automated system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Modelization &amp; Computer assisted process desig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Engineering of Industrial computer systems/ /electronics/micro electronics /chemis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Industrial IT, Networks and Telecommunic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E-Commer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Logistics and smart transport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Bio informatic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IT applied to music – accoustics and signal treat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Managing Documentation syste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IT &amp; Information Technolog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16800" y="4135320"/>
            <a:ext cx="1095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4160" y="251820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1810440"/>
            <a:ext cx="40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graduates in Provence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April ’04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348000" y="1341360"/>
          <a:ext cx="5589720" cy="242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341360"/>
                    <a:ext cx="5589720" cy="24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2222640" y="264636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260280"/>
            <a:ext cx="78102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6633"/>
                </a:solidFill>
                <a:latin typeface="Arial"/>
              </a:rPr>
              <a:t>Training &amp; education :</a:t>
            </a:r>
            <a:br>
              <a:rPr sz="3400"/>
            </a:br>
            <a:r>
              <a:rPr b="1" lang="fr-FR" sz="29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fr-FR" sz="2900" spc="-1" strike="noStrike">
                <a:solidFill>
                  <a:srgbClr val="3b812f"/>
                </a:solidFill>
                <a:latin typeface="Arial"/>
              </a:rPr>
              <a:t>A young &amp; well trained population (cont’d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700280" y="252360"/>
            <a:ext cx="45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 u="sng">
                <a:solidFill>
                  <a:srgbClr val="000000"/>
                </a:solidFill>
                <a:uFillTx/>
                <a:latin typeface="Arial"/>
              </a:rPr>
              <a:t>Easy to attract scientific talent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: contrary to US practices, young scientists do not expect to be approached by start-ups and will feel excited to embark on your entrepreneurial project (especially if stock plans are offered !!)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 u="sng">
                <a:solidFill>
                  <a:srgbClr val="000000"/>
                </a:solidFill>
                <a:uFillTx/>
                <a:latin typeface="Arial"/>
              </a:rPr>
              <a:t>Low turnover/high loyalty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: again, it is not customary practice to regularly change jobs &amp; company : employees tend to « stick » to their employ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 u="sng">
                <a:solidFill>
                  <a:srgbClr val="000000"/>
                </a:solidFill>
                <a:uFillTx/>
                <a:latin typeface="Arial"/>
              </a:rPr>
              <a:t>High quality training &amp; education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(see abov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 u="sng">
                <a:solidFill>
                  <a:srgbClr val="000000"/>
                </a:solidFill>
                <a:uFillTx/>
                <a:latin typeface="Arial"/>
              </a:rPr>
              <a:t>Strong relationships/partnerships with the schools/Universities where they come from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Last but not least, </a:t>
            </a:r>
            <a:r>
              <a:rPr b="0" lang="fr-FR" sz="2200" spc="-1" strike="noStrike" u="sng">
                <a:solidFill>
                  <a:srgbClr val="000000"/>
                </a:solidFill>
                <a:uFillTx/>
                <a:latin typeface="Arial"/>
              </a:rPr>
              <a:t>numerous government help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: e.g, the emplyment costs of a newly graduated PhD who will join you to do R&amp;D will be covered for the first 24 months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6800" y="4135320"/>
            <a:ext cx="1095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4160" y="2518200"/>
            <a:ext cx="18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60280"/>
            <a:ext cx="810108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6633"/>
                </a:solidFill>
                <a:latin typeface="Arial"/>
              </a:rPr>
              <a:t>Why hire French</a:t>
            </a:r>
            <a:r>
              <a:rPr b="1" lang="fr-FR" sz="29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fr-FR" sz="3400" spc="-1" strike="noStrike">
                <a:solidFill>
                  <a:srgbClr val="006633"/>
                </a:solidFill>
                <a:latin typeface="Arial"/>
              </a:rPr>
              <a:t>graduates</a:t>
            </a:r>
            <a:r>
              <a:rPr b="1" lang="fr-FR" sz="2900" spc="-1" strike="noStrike">
                <a:solidFill>
                  <a:srgbClr val="006633"/>
                </a:solidFill>
                <a:latin typeface="Arial"/>
              </a:rPr>
              <a:t> 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22640" y="264636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6633"/>
                </a:solidFill>
                <a:latin typeface="Arial"/>
                <a:ea typeface="宋体"/>
              </a:rPr>
              <a:t>Human Resource Management In Provenc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French Labor marke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Perspectives as per President’s Sarkozy’s intention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duce cost of 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llow people to earn more when they work 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imit cost of fi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duce the number of people who benefit from « historical » exemptions (« régimes spéciaux 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e tougher on employees on the dole who refuse too many job off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28:49Z</dcterms:created>
  <dc:creator>Pericchi Jean-Charles</dc:creator>
  <dc:description/>
  <dc:language>en-US</dc:language>
  <cp:lastModifiedBy>svstudent01</cp:lastModifiedBy>
  <dcterms:modified xsi:type="dcterms:W3CDTF">2007-10-19T00:13:20Z</dcterms:modified>
  <cp:revision>18</cp:revision>
  <dc:subject/>
  <dc:title>Human Resource Management In Provence</dc:title>
</cp:coreProperties>
</file>