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jpeg" ContentType="image/jpeg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4984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FFC73C7-7285-4653-AC17-7EDFE243DB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NTS : NETWORK ET NON ORGANIZATION Attention nous sommes un réseau et pas une organisation à part de Provence promo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SH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cu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Innovation and Entrepreneu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ovation is a domain where France has developed an impressive set of new measures in the past years : tax exemption, social charges reduction, grants.  In provence we specifically determined our offer on key competencies like Fabless design or Bioinformatics were you will find aditional resources like a strong communbity of engineers, business networks or shared R&amp;D platform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epreneurship : we try to understand you specific needs and then we customize our offer according to your specifics : How to ease the procedures to set up a business in France? How to    We work on a bottom up approcah to customize our offer on these reques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nch expatriates and Francophiles : our approach is targeted to french expatriates and francophiles, who need to go back in touch with busines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networks in France. We work not only for the entrepreneur but for its family , that is the meaning of the HSH mess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89AE-5A0A-43BB-AF91-45C8170455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BFBF-10C7-416C-9AB9-6DA06A7A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95279-767C-4238-8B3C-FAF93A07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9B29-38A4-4515-8596-DF4BC187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95DF-C7F9-4493-8A26-3798FAD8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48029-4924-4D20-AD05-2B6A93AE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A8B8-50FA-4D11-BE53-09A1E772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CA513-EE27-42C6-8D23-51BAB8FA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C9E16-13AF-4C48-A486-82AC21B1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5C178-EA25-45DA-8DCD-9F210602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2E05-9CA1-4269-91FF-9CD810B3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8811-FB95-4562-A7E6-708BF205E4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36360" y="981000"/>
            <a:ext cx="9324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1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2D5F-CCF5-4072-9444-226D3EAA9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5229360"/>
            <a:ext cx="1819440" cy="1628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algn="ctr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algn="ctr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4" algn="ctr">
              <a:spcBef>
                <a:spcPts val="400"/>
              </a:spcBef>
              <a:buClr>
                <a:srgbClr val="333399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5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6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artinprovence.com/" TargetMode="External"/><Relationship Id="rId2" Type="http://schemas.openxmlformats.org/officeDocument/2006/relationships/hyperlink" Target="mailto:p.distinguin@provence-promotion.fr" TargetMode="External"/><Relationship Id="rId3" Type="http://schemas.openxmlformats.org/officeDocument/2006/relationships/hyperlink" Target="mailto:c.brun@provence-promotion.fr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8.png"/><Relationship Id="rId15" Type="http://schemas.openxmlformats.org/officeDocument/2006/relationships/image" Target="../media/image19.jpeg"/><Relationship Id="rId16" Type="http://schemas.openxmlformats.org/officeDocument/2006/relationships/image" Target="../media/image20.jpeg"/><Relationship Id="rId17" Type="http://schemas.openxmlformats.org/officeDocument/2006/relationships/image" Target="../media/image21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96360" y="6018120"/>
            <a:ext cx="660240" cy="719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732720" y="6492960"/>
            <a:ext cx="776160" cy="245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 rot="682200">
            <a:off x="6877080" y="465120"/>
            <a:ext cx="1940040" cy="1092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90520" y="2552760"/>
            <a:ext cx="6801120" cy="1733400"/>
          </a:xfrm>
          <a:prstGeom prst="bevel">
            <a:avLst>
              <a:gd name="adj" fmla="val 5403"/>
            </a:avLst>
          </a:prstGeom>
          <a:solidFill>
            <a:srgbClr val="333399">
              <a:alpha val="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6440" y="2359080"/>
            <a:ext cx="777240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HOME SWEET HOME</a:t>
            </a:r>
            <a:br>
              <a:rPr sz="4400"/>
            </a:b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START IN PROVE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8358120" y="6005520"/>
            <a:ext cx="65268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uccess Stor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4 startups in Provence since 2003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8 National Innovation Award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0% of projects from USA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rtnership with ESCP, INSEAD, HEC…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Thank you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171880" y="1981080"/>
            <a:ext cx="4800600" cy="3490560"/>
            <a:chOff x="2171880" y="1981080"/>
            <a:chExt cx="4800600" cy="3490560"/>
          </a:xfrm>
        </p:grpSpPr>
        <p:sp>
          <p:nvSpPr>
            <p:cNvPr id="178" name=""/>
            <p:cNvSpPr/>
            <p:nvPr/>
          </p:nvSpPr>
          <p:spPr>
            <a:xfrm>
              <a:off x="2171880" y="1981080"/>
              <a:ext cx="4800600" cy="3490560"/>
            </a:xfrm>
            <a:prstGeom prst="bevel">
              <a:avLst>
                <a:gd name="adj" fmla="val 3620"/>
              </a:avLst>
            </a:prstGeom>
            <a:solidFill>
              <a:srgbClr val="3333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4720" y="2189160"/>
              <a:ext cx="3795480" cy="29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"/>
                </a:rPr>
                <a:t>Start in Prov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9999"/>
                  </a:solidFill>
                  <a:uFillTx/>
                  <a:latin typeface="Arial"/>
                  <a:hlinkClick r:id="rId1"/>
                </a:rPr>
                <a:t>www.startinprovence.com</a:t>
              </a: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"/>
                </a:rPr>
                <a:t>Pierre Distingu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9999"/>
                  </a:solidFill>
                  <a:uFillTx/>
                  <a:latin typeface="Arial"/>
                  <a:hlinkClick r:id="rId2"/>
                </a:rPr>
                <a:t>p.distinguin@provence-promotion.f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99"/>
                  </a:solidFill>
                  <a:latin typeface="Arial"/>
                </a:rPr>
                <a:t>Cécile Bru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009999"/>
                  </a:solidFill>
                  <a:uFillTx/>
                  <a:latin typeface="Arial"/>
                  <a:hlinkClick r:id="rId3"/>
                </a:rPr>
                <a:t>c.brun@provence-promotion.fr</a:t>
              </a:r>
              <a:r>
                <a:rPr b="0" lang="en-GB" sz="1800" spc="-1" strike="noStrike" u="sng">
                  <a:solidFill>
                    <a:srgbClr val="333399"/>
                  </a:solidFill>
                  <a:uFillTx/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99"/>
                  </a:solidFill>
                  <a:latin typeface="Arial"/>
                </a:rPr>
                <a:t>Provence Promotion</a:t>
              </a: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Economic Development Agency, Marseil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333399"/>
                  </a:solidFill>
                  <a:latin typeface="Arial"/>
                </a:rPr>
                <a:t>+ 33 4 96 11 60 00</a:t>
              </a:r>
              <a:r>
                <a:rPr b="0" lang="en-GB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Start in Provenc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0720" y="1599840"/>
            <a:ext cx="511308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n profit network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naged by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ovence Promo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, Economic Development Agenc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50 public and private partner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usinesses &amp; business cluster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ubators &amp; entrepreneur network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search institut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nancial servic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Public fund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sultan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enture Capita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and more…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EI Initiativ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540400" y="1557360"/>
            <a:ext cx="3168720" cy="4535640"/>
            <a:chOff x="5540400" y="1557360"/>
            <a:chExt cx="3168720" cy="4535640"/>
          </a:xfrm>
        </p:grpSpPr>
        <p:grpSp>
          <p:nvGrpSpPr>
            <p:cNvPr id="97" name=""/>
            <p:cNvGrpSpPr/>
            <p:nvPr/>
          </p:nvGrpSpPr>
          <p:grpSpPr>
            <a:xfrm>
              <a:off x="5778360" y="1773360"/>
              <a:ext cx="2739960" cy="4032000"/>
              <a:chOff x="5778360" y="1773360"/>
              <a:chExt cx="2739960" cy="4032000"/>
            </a:xfrm>
          </p:grpSpPr>
          <p:graphicFrame>
            <p:nvGraphicFramePr>
              <p:cNvPr id="98" name="incubateur"/>
              <p:cNvGraphicFramePr/>
              <p:nvPr/>
            </p:nvGraphicFramePr>
            <p:xfrm>
              <a:off x="7721280" y="1773360"/>
              <a:ext cx="677880" cy="48888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99" name="incubateur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721280" y="1773360"/>
                        <a:ext cx="677880" cy="488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0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78360" y="5440320"/>
                <a:ext cx="927000" cy="2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778360" y="1835280"/>
                <a:ext cx="720720" cy="358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logo_paca" descr=""/>
              <p:cNvPicPr/>
              <p:nvPr/>
            </p:nvPicPr>
            <p:blipFill>
              <a:blip r:embed="rId5"/>
              <a:stretch/>
            </p:blipFill>
            <p:spPr>
              <a:xfrm>
                <a:off x="5778360" y="4511520"/>
                <a:ext cx="838080" cy="29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889320" y="1806480"/>
                <a:ext cx="540000" cy="42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67440" y="3533760"/>
                <a:ext cx="502920" cy="44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865640" y="2714760"/>
                <a:ext cx="505080" cy="36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Logo_A2CE2" descr=""/>
              <p:cNvPicPr/>
              <p:nvPr/>
            </p:nvPicPr>
            <p:blipFill>
              <a:blip r:embed="rId9"/>
              <a:stretch/>
            </p:blipFill>
            <p:spPr>
              <a:xfrm>
                <a:off x="6895800" y="2692440"/>
                <a:ext cx="647640" cy="398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7" name=""/>
              <p:cNvGrpSpPr/>
              <p:nvPr/>
            </p:nvGrpSpPr>
            <p:grpSpPr>
              <a:xfrm>
                <a:off x="7865640" y="3495600"/>
                <a:ext cx="505080" cy="525600"/>
                <a:chOff x="7865640" y="3495600"/>
                <a:chExt cx="505080" cy="525600"/>
              </a:xfrm>
            </p:grpSpPr>
            <p:pic>
              <p:nvPicPr>
                <p:cNvPr id="108" name="europe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65640" y="3495600"/>
                  <a:ext cx="489960" cy="34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" name=""/>
                <p:cNvSpPr/>
                <p:nvPr/>
              </p:nvSpPr>
              <p:spPr>
                <a:xfrm>
                  <a:off x="7865640" y="3857040"/>
                  <a:ext cx="505080" cy="16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000" spc="-1" strike="noStrike">
                      <a:solidFill>
                        <a:srgbClr val="003399"/>
                      </a:solidFill>
                      <a:latin typeface="Arial"/>
                    </a:rPr>
                    <a:t>F.S.E.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778360" y="2730600"/>
                <a:ext cx="863640" cy="32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1" name=""/>
              <p:cNvGrpSpPr/>
              <p:nvPr/>
            </p:nvGrpSpPr>
            <p:grpSpPr>
              <a:xfrm>
                <a:off x="7792920" y="4443480"/>
                <a:ext cx="684000" cy="525240"/>
                <a:chOff x="7792920" y="4443480"/>
                <a:chExt cx="684000" cy="525240"/>
              </a:xfrm>
            </p:grpSpPr>
            <p:pic>
              <p:nvPicPr>
                <p:cNvPr id="112" name="moulinettemetalBDT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909200" y="4443480"/>
                  <a:ext cx="369720" cy="25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792920" y="4723560"/>
                  <a:ext cx="684000" cy="24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720" rIns="36720" tIns="36720" bIns="3672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400" spc="-1" strike="noStrike">
                      <a:solidFill>
                        <a:srgbClr val="000000"/>
                      </a:solidFill>
                      <a:latin typeface="Times New Roman"/>
                    </a:rPr>
                    <a:t>Charbonnages de France</a:t>
                  </a: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400" spc="-1" strike="noStrike">
                      <a:solidFill>
                        <a:srgbClr val="000000"/>
                      </a:solidFill>
                      <a:latin typeface="Times New Roman"/>
                    </a:rPr>
                    <a:t>Direction du Développement Territorial</a:t>
                  </a:r>
                  <a:r>
                    <a:rPr b="0" lang="fr-FR" sz="9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114" name=""/>
              <p:cNvGraphicFramePr/>
              <p:nvPr/>
            </p:nvGraphicFramePr>
            <p:xfrm>
              <a:off x="5778360" y="3544920"/>
              <a:ext cx="765000" cy="4190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1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778360" y="3544920"/>
                        <a:ext cx="765000" cy="41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11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857640" y="5440320"/>
                <a:ext cx="67644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895800" y="4443480"/>
                <a:ext cx="68256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721280" y="5440320"/>
                <a:ext cx="797040" cy="365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"/>
            <p:cNvSpPr/>
            <p:nvPr/>
          </p:nvSpPr>
          <p:spPr>
            <a:xfrm>
              <a:off x="5540400" y="1557360"/>
              <a:ext cx="3168720" cy="4535640"/>
            </a:xfrm>
            <a:custGeom>
              <a:avLst/>
              <a:gdLst>
                <a:gd name="textAreaLeft" fmla="*/ 32040 w 3168720"/>
                <a:gd name="textAreaRight" fmla="*/ 3136680 w 3168720"/>
                <a:gd name="textAreaTop" fmla="*/ 32040 h 4535640"/>
                <a:gd name="textAreaBottom" fmla="*/ 4503600 h 4535640"/>
              </a:gdLst>
              <a:ahLst/>
              <a:rect l="textAreaLeft" t="textAreaTop" r="textAreaRight" b="textAreaBottom"/>
              <a:pathLst>
                <a:path w="21600" h="30917">
                  <a:moveTo>
                    <a:pt x="747" y="0"/>
                  </a:moveTo>
                  <a:arcTo wR="747" hR="747" stAng="16200000" swAng="-5400000"/>
                  <a:lnTo>
                    <a:pt x="0" y="30170"/>
                  </a:lnTo>
                  <a:arcTo wR="747" hR="747" stAng="10800000" swAng="-5400000"/>
                  <a:lnTo>
                    <a:pt x="20853" y="30917"/>
                  </a:lnTo>
                  <a:arcTo wR="747" hR="747" stAng="5400000" swAng="-5400000"/>
                  <a:lnTo>
                    <a:pt x="21600" y="747"/>
                  </a:lnTo>
                  <a:arcTo wR="747" hR="747" stAng="0" swAng="-5400000"/>
                  <a:close/>
                </a:path>
              </a:pathLst>
            </a:custGeom>
            <a:noFill/>
            <a:ln w="9360">
              <a:solidFill>
                <a:srgbClr val="333399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pporting startup and innovation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57480" y="3700440"/>
            <a:ext cx="636480" cy="324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971640" y="1833480"/>
            <a:ext cx="7200720" cy="4176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828800"/>
            <a:ext cx="1584360" cy="4186080"/>
          </a:xfrm>
          <a:prstGeom prst="rect">
            <a:avLst/>
          </a:prstGeom>
          <a:solidFill>
            <a:srgbClr val="3333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70040" y="1835280"/>
            <a:ext cx="3097440" cy="4186080"/>
          </a:xfrm>
          <a:prstGeom prst="rect">
            <a:avLst/>
          </a:prstGeom>
          <a:solidFill>
            <a:srgbClr val="8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3080" y="1835280"/>
            <a:ext cx="2519280" cy="4186080"/>
          </a:xfrm>
          <a:prstGeom prst="rect">
            <a:avLst/>
          </a:prstGeom>
          <a:solidFill>
            <a:srgbClr val="008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87280" y="1889280"/>
            <a:ext cx="6913800" cy="3960720"/>
          </a:xfrm>
          <a:custGeom>
            <a:avLst/>
            <a:gdLst/>
            <a:ahLst/>
            <a:rect l="l" t="t" r="r" b="b"/>
            <a:pathLst>
              <a:path w="4355" h="2495">
                <a:moveTo>
                  <a:pt x="0" y="2495"/>
                </a:moveTo>
                <a:cubicBezTo>
                  <a:pt x="30" y="2404"/>
                  <a:pt x="61" y="2313"/>
                  <a:pt x="318" y="2222"/>
                </a:cubicBezTo>
                <a:cubicBezTo>
                  <a:pt x="575" y="2131"/>
                  <a:pt x="1217" y="2207"/>
                  <a:pt x="1542" y="1950"/>
                </a:cubicBezTo>
                <a:cubicBezTo>
                  <a:pt x="1867" y="1693"/>
                  <a:pt x="1799" y="1005"/>
                  <a:pt x="2268" y="680"/>
                </a:cubicBezTo>
                <a:cubicBezTo>
                  <a:pt x="2737" y="355"/>
                  <a:pt x="3546" y="177"/>
                  <a:pt x="4355" y="0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1828800"/>
            <a:ext cx="3024000" cy="4181400"/>
          </a:xfrm>
          <a:custGeom>
            <a:avLst/>
            <a:gdLst>
              <a:gd name="textAreaLeft" fmla="*/ 0 w 3024000"/>
              <a:gd name="textAreaRight" fmla="*/ 3024360 w 3024000"/>
              <a:gd name="textAreaTop" fmla="*/ 0 h 4181400"/>
              <a:gd name="textAreaBottom" fmla="*/ 4181760 h 418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1640" y="1960560"/>
            <a:ext cx="158436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w energy &amp;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ry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mu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ptical complex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bile content &amp;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C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art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ured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65320" y="6035760"/>
            <a:ext cx="2035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FIRST CONTA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FRANCE / US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70120" y="1233360"/>
            <a:ext cx="57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Arial"/>
              </a:rPr>
              <a:t>HOME SWEET HOME – START IN PRO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6035760"/>
            <a:ext cx="2035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PRE-SETTING U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24520" y="6033960"/>
            <a:ext cx="2035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33399"/>
                </a:solidFill>
                <a:latin typeface="Arial"/>
              </a:rPr>
              <a:t>START UP LAUNC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79560" y="5567400"/>
            <a:ext cx="790560" cy="4492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7332840" y="1847880"/>
            <a:ext cx="83628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Competitive advantag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dedicated task force 24 hours/ 24 hour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network towards 150 experts in IT, cleantech and Life Scien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turnkey ingeniery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crease your chance of succes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ime sav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cus on your core busines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One Stop Shop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Feasibility study, preparation of specifica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Regulatory and fiscal advi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dministrative formalit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Location of premis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Funding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Location of suppliers and servi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ssistance with local authorit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Recruitme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Relocation : housing, schools, job search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Early development, integration etc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Let Provence work for you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Workshops and on-site meetings in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USA : Boston, Silicon Valle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Canada : Montrea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UK : Lond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80820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France : Pari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A network of more than 330 partners worldwide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Young Entrepreneurs Initiativ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234200" y="1600200"/>
            <a:ext cx="1225440" cy="4327560"/>
            <a:chOff x="7234200" y="1600200"/>
            <a:chExt cx="1225440" cy="432756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7234200" y="1600200"/>
              <a:ext cx="1225440" cy="13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7234200" y="4530600"/>
              <a:ext cx="1225440" cy="13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7234200" y="3068640"/>
              <a:ext cx="1225440" cy="1397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449280" y="1413000"/>
            <a:ext cx="8352000" cy="4805280"/>
            <a:chOff x="449280" y="1413000"/>
            <a:chExt cx="8352000" cy="4805280"/>
          </a:xfrm>
        </p:grpSpPr>
        <p:sp>
          <p:nvSpPr>
            <p:cNvPr id="146" name=""/>
            <p:cNvSpPr/>
            <p:nvPr/>
          </p:nvSpPr>
          <p:spPr>
            <a:xfrm>
              <a:off x="449280" y="2017800"/>
              <a:ext cx="2646360" cy="3601800"/>
            </a:xfrm>
            <a:custGeom>
              <a:avLst/>
              <a:gdLst>
                <a:gd name="textAreaLeft" fmla="*/ 0 w 2646360"/>
                <a:gd name="textAreaRight" fmla="*/ 2646720 w 2646360"/>
                <a:gd name="textAreaTop" fmla="*/ 0 h 3601800"/>
                <a:gd name="textAreaBottom" fmla="*/ 3602160 h 36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90" y="0"/>
                  </a:lnTo>
                  <a:lnTo>
                    <a:pt x="21600" y="10800"/>
                  </a:lnTo>
                  <a:lnTo>
                    <a:pt x="1819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5002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87640" y="2017800"/>
              <a:ext cx="2879640" cy="36018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3601800"/>
                <a:gd name="textAreaBottom" fmla="*/ 3602160 h 36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45" y="0"/>
                  </a:lnTo>
                  <a:lnTo>
                    <a:pt x="21600" y="10800"/>
                  </a:lnTo>
                  <a:lnTo>
                    <a:pt x="18445" y="21600"/>
                  </a:lnTo>
                  <a:lnTo>
                    <a:pt x="0" y="21600"/>
                  </a:lnTo>
                  <a:lnTo>
                    <a:pt x="3155" y="10800"/>
                  </a:lnTo>
                  <a:close/>
                </a:path>
              </a:pathLst>
            </a:custGeom>
            <a:solidFill>
              <a:srgbClr val="33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43440" y="2017800"/>
              <a:ext cx="2880000" cy="3601800"/>
            </a:xfrm>
            <a:custGeom>
              <a:avLst/>
              <a:gdLst>
                <a:gd name="textAreaLeft" fmla="*/ 0 w 2880000"/>
                <a:gd name="textAreaRight" fmla="*/ 2880360 w 2880000"/>
                <a:gd name="textAreaTop" fmla="*/ 0 h 3601800"/>
                <a:gd name="textAreaBottom" fmla="*/ 3602160 h 36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45" y="0"/>
                  </a:lnTo>
                  <a:lnTo>
                    <a:pt x="21600" y="10800"/>
                  </a:lnTo>
                  <a:lnTo>
                    <a:pt x="18445" y="21600"/>
                  </a:lnTo>
                  <a:lnTo>
                    <a:pt x="0" y="21600"/>
                  </a:lnTo>
                  <a:lnTo>
                    <a:pt x="3155" y="10800"/>
                  </a:lnTo>
                  <a:close/>
                </a:path>
              </a:pathLst>
            </a:custGeom>
            <a:solidFill>
              <a:srgbClr val="33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1280" y="1413000"/>
              <a:ext cx="6120000" cy="4805280"/>
            </a:xfrm>
            <a:custGeom>
              <a:avLst/>
              <a:gdLst>
                <a:gd name="textAreaLeft" fmla="*/ 0 w 6120000"/>
                <a:gd name="textAreaRight" fmla="*/ 6120360 w 6120000"/>
                <a:gd name="textAreaTop" fmla="*/ 0 h 4805280"/>
                <a:gd name="textAreaBottom" fmla="*/ 4805640 h 480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64" y="0"/>
                  </a:lnTo>
                  <a:lnTo>
                    <a:pt x="21600" y="10800"/>
                  </a:lnTo>
                  <a:lnTo>
                    <a:pt x="19564" y="21600"/>
                  </a:lnTo>
                  <a:lnTo>
                    <a:pt x="0" y="21600"/>
                  </a:lnTo>
                  <a:lnTo>
                    <a:pt x="2036" y="10800"/>
                  </a:lnTo>
                  <a:close/>
                </a:path>
              </a:pathLst>
            </a:custGeom>
            <a:noFill/>
            <a:ln w="6480">
              <a:solidFill>
                <a:srgbClr val="dddddd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43280" y="5802480"/>
              <a:ext cx="5467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Arial"/>
                </a:rPr>
                <a:t>S t a r t   i n   P r o v e n c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449280" y="2022480"/>
            <a:ext cx="26463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a50021"/>
                </a:solidFill>
                <a:latin typeface="Arial"/>
              </a:rPr>
              <a:t>YOUR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"/>
              </a:rPr>
              <a:t>Local network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"/>
              </a:rPr>
              <a:t>Business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"/>
              </a:rPr>
              <a:t>Feasibility stu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"/>
              </a:rPr>
              <a:t>Relo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"/>
              </a:rPr>
              <a:t>Company regist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"/>
              </a:rPr>
              <a:t>Legal issu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"/>
              </a:rPr>
              <a:t>IP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59280" y="2022480"/>
            <a:ext cx="2808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OUR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Young Entrepreneur Initiativ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French Embass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Local experts in your s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Selected business expe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International schoo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Relocation Agenc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Expatriate networ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Landwell Globa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Anv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Incuba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15080" y="2021040"/>
            <a:ext cx="28796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YOUR 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Mentoring, networking, remo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contacts, free travel to Fr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Links to potential l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customers &amp; expe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Free first contacts + packag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off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Free legal expert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Support to claims depos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1. First contact and feasibility stud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449280" y="1413000"/>
            <a:ext cx="8352000" cy="4805280"/>
            <a:chOff x="449280" y="1413000"/>
            <a:chExt cx="8352000" cy="4805280"/>
          </a:xfrm>
        </p:grpSpPr>
        <p:sp>
          <p:nvSpPr>
            <p:cNvPr id="156" name=""/>
            <p:cNvSpPr/>
            <p:nvPr/>
          </p:nvSpPr>
          <p:spPr>
            <a:xfrm>
              <a:off x="449280" y="2017800"/>
              <a:ext cx="2646360" cy="3601800"/>
            </a:xfrm>
            <a:custGeom>
              <a:avLst/>
              <a:gdLst>
                <a:gd name="textAreaLeft" fmla="*/ 0 w 2646360"/>
                <a:gd name="textAreaRight" fmla="*/ 2646720 w 2646360"/>
                <a:gd name="textAreaTop" fmla="*/ 0 h 3601800"/>
                <a:gd name="textAreaBottom" fmla="*/ 3602160 h 36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90" y="0"/>
                  </a:lnTo>
                  <a:lnTo>
                    <a:pt x="21600" y="10800"/>
                  </a:lnTo>
                  <a:lnTo>
                    <a:pt x="1819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50021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87640" y="2017800"/>
              <a:ext cx="2879640" cy="36018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3601800"/>
                <a:gd name="textAreaBottom" fmla="*/ 3602160 h 36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45" y="0"/>
                  </a:lnTo>
                  <a:lnTo>
                    <a:pt x="21600" y="10800"/>
                  </a:lnTo>
                  <a:lnTo>
                    <a:pt x="18445" y="21600"/>
                  </a:lnTo>
                  <a:lnTo>
                    <a:pt x="0" y="21600"/>
                  </a:lnTo>
                  <a:lnTo>
                    <a:pt x="3155" y="10800"/>
                  </a:lnTo>
                  <a:close/>
                </a:path>
              </a:pathLst>
            </a:custGeom>
            <a:solidFill>
              <a:srgbClr val="33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43440" y="2017800"/>
              <a:ext cx="2880000" cy="3601800"/>
            </a:xfrm>
            <a:custGeom>
              <a:avLst/>
              <a:gdLst>
                <a:gd name="textAreaLeft" fmla="*/ 0 w 2880000"/>
                <a:gd name="textAreaRight" fmla="*/ 2880360 w 2880000"/>
                <a:gd name="textAreaTop" fmla="*/ 0 h 3601800"/>
                <a:gd name="textAreaBottom" fmla="*/ 3602160 h 360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445" y="0"/>
                  </a:lnTo>
                  <a:lnTo>
                    <a:pt x="21600" y="10800"/>
                  </a:lnTo>
                  <a:lnTo>
                    <a:pt x="18445" y="21600"/>
                  </a:lnTo>
                  <a:lnTo>
                    <a:pt x="0" y="21600"/>
                  </a:lnTo>
                  <a:lnTo>
                    <a:pt x="3155" y="10800"/>
                  </a:lnTo>
                  <a:close/>
                </a:path>
              </a:pathLst>
            </a:custGeom>
            <a:solidFill>
              <a:srgbClr val="3333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81280" y="1413000"/>
              <a:ext cx="6120000" cy="4805280"/>
            </a:xfrm>
            <a:custGeom>
              <a:avLst/>
              <a:gdLst>
                <a:gd name="textAreaLeft" fmla="*/ 0 w 6120000"/>
                <a:gd name="textAreaRight" fmla="*/ 6120360 w 6120000"/>
                <a:gd name="textAreaTop" fmla="*/ 0 h 4805280"/>
                <a:gd name="textAreaBottom" fmla="*/ 4805640 h 480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64" y="0"/>
                  </a:lnTo>
                  <a:lnTo>
                    <a:pt x="21600" y="10800"/>
                  </a:lnTo>
                  <a:lnTo>
                    <a:pt x="19564" y="21600"/>
                  </a:lnTo>
                  <a:lnTo>
                    <a:pt x="0" y="21600"/>
                  </a:lnTo>
                  <a:lnTo>
                    <a:pt x="2036" y="10800"/>
                  </a:lnTo>
                  <a:close/>
                </a:path>
              </a:pathLst>
            </a:custGeom>
            <a:noFill/>
            <a:ln w="6480">
              <a:solidFill>
                <a:srgbClr val="dddddd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43280" y="5802480"/>
              <a:ext cx="5467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808080"/>
                  </a:solidFill>
                  <a:latin typeface="Arial"/>
                </a:rPr>
                <a:t>S t a r t   i n   P r o v e n c 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49280" y="2014560"/>
            <a:ext cx="26463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a50021"/>
                </a:solidFill>
                <a:latin typeface="Arial"/>
              </a:rPr>
              <a:t>YOUR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"/>
              </a:rPr>
              <a:t>Seed financ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"/>
              </a:rPr>
              <a:t>Site search and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"/>
              </a:rPr>
              <a:t>Recruit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60720" y="2017800"/>
            <a:ext cx="264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OUR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Ministry of R&amp;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Incubators, Oseo Anva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DAP, Sofirem, CR PAC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Incuba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Business Cent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Real Estate agenc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Business Clust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Incuba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Recruitment agenc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Ministry of Resear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Regional Counci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11840" y="2022480"/>
            <a:ext cx="264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YOUR ADVANT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Innovation grants (€45k-€450k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Networking + Preferred lo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(€30k-€200k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Free site search assistan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Flexible, low cost initial s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up in Technopark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Find associat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Recruit staf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Reduce labor costs fr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45% to 10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Grants (PAT, Cifre,.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2. Pre-setting up proces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49280" y="2017800"/>
            <a:ext cx="2646360" cy="3601800"/>
          </a:xfrm>
          <a:custGeom>
            <a:avLst/>
            <a:gdLst>
              <a:gd name="textAreaLeft" fmla="*/ 0 w 2646360"/>
              <a:gd name="textAreaRight" fmla="*/ 2646720 w 2646360"/>
              <a:gd name="textAreaTop" fmla="*/ 0 h 3601800"/>
              <a:gd name="textAreaBottom" fmla="*/ 3602160 h 36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0" y="0"/>
                </a:lnTo>
                <a:lnTo>
                  <a:pt x="21600" y="10800"/>
                </a:lnTo>
                <a:lnTo>
                  <a:pt x="181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50021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2017800"/>
            <a:ext cx="2879640" cy="3601800"/>
          </a:xfrm>
          <a:custGeom>
            <a:avLst/>
            <a:gdLst>
              <a:gd name="textAreaLeft" fmla="*/ 0 w 2879640"/>
              <a:gd name="textAreaRight" fmla="*/ 2880000 w 2879640"/>
              <a:gd name="textAreaTop" fmla="*/ 0 h 3601800"/>
              <a:gd name="textAreaBottom" fmla="*/ 3602160 h 36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5" y="0"/>
                </a:lnTo>
                <a:lnTo>
                  <a:pt x="21600" y="10800"/>
                </a:lnTo>
                <a:lnTo>
                  <a:pt x="18445" y="21600"/>
                </a:lnTo>
                <a:lnTo>
                  <a:pt x="0" y="21600"/>
                </a:lnTo>
                <a:lnTo>
                  <a:pt x="3155" y="10800"/>
                </a:lnTo>
                <a:close/>
              </a:path>
            </a:pathLst>
          </a:custGeom>
          <a:solidFill>
            <a:srgbClr val="3333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43440" y="2017800"/>
            <a:ext cx="2880000" cy="3601800"/>
          </a:xfrm>
          <a:custGeom>
            <a:avLst/>
            <a:gdLst>
              <a:gd name="textAreaLeft" fmla="*/ 0 w 2880000"/>
              <a:gd name="textAreaRight" fmla="*/ 2880360 w 2880000"/>
              <a:gd name="textAreaTop" fmla="*/ 0 h 3601800"/>
              <a:gd name="textAreaBottom" fmla="*/ 3602160 h 36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5" y="0"/>
                </a:lnTo>
                <a:lnTo>
                  <a:pt x="21600" y="10800"/>
                </a:lnTo>
                <a:lnTo>
                  <a:pt x="18445" y="21600"/>
                </a:lnTo>
                <a:lnTo>
                  <a:pt x="0" y="21600"/>
                </a:lnTo>
                <a:lnTo>
                  <a:pt x="3155" y="10800"/>
                </a:lnTo>
                <a:close/>
              </a:path>
            </a:pathLst>
          </a:custGeom>
          <a:solidFill>
            <a:srgbClr val="3333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20" y="2014560"/>
            <a:ext cx="26463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a50021"/>
                </a:solidFill>
                <a:latin typeface="Arial"/>
              </a:rPr>
              <a:t>YOUR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"/>
              </a:rPr>
              <a:t>Product  development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"/>
              </a:rPr>
              <a:t>Hardware investment, Software, Consult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"/>
              </a:rPr>
              <a:t>Business Develop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"/>
              </a:rPr>
              <a:t>Locate VLAs and lead custome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"/>
              </a:rPr>
              <a:t>R&amp;D Invest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"/>
              </a:rPr>
              <a:t>(pre-industrializatio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a50021"/>
                </a:solidFill>
                <a:latin typeface="Arial"/>
              </a:rPr>
              <a:t>French &amp; Euro R&amp;D Progr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59280" y="2017800"/>
            <a:ext cx="26478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Technology clusters, Regio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council, Charbonnages 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France, Sofire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Incubators &amp; business park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Venture Capitalis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ANV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State &amp; Europ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15080" y="2022480"/>
            <a:ext cx="2808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BENE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Shared platforms &amp;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Shared R&amp;D &amp; consult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Investment grants (15-25%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Local networkin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Business Develop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Missions in Europe, Asia &am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Mediterrane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-50% of eligible spe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333399"/>
                </a:solidFill>
                <a:latin typeface="Arial"/>
              </a:rPr>
              <a:t>50% of eligible spend &gt;€200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Arial"/>
              </a:rPr>
              <a:t>3. Start up launch and early developmen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5802480"/>
            <a:ext cx="5467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S t a r t   i n   P r o v e n c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681280" y="1413000"/>
            <a:ext cx="6120000" cy="4805280"/>
          </a:xfrm>
          <a:custGeom>
            <a:avLst/>
            <a:gdLst>
              <a:gd name="textAreaLeft" fmla="*/ 0 w 6120000"/>
              <a:gd name="textAreaRight" fmla="*/ 6120360 w 6120000"/>
              <a:gd name="textAreaTop" fmla="*/ 0 h 4805280"/>
              <a:gd name="textAreaBottom" fmla="*/ 4805640 h 480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64" y="0"/>
                </a:lnTo>
                <a:lnTo>
                  <a:pt x="21600" y="10800"/>
                </a:lnTo>
                <a:lnTo>
                  <a:pt x="19564" y="21600"/>
                </a:lnTo>
                <a:lnTo>
                  <a:pt x="0" y="21600"/>
                </a:lnTo>
                <a:lnTo>
                  <a:pt x="2036" y="10800"/>
                </a:lnTo>
                <a:close/>
              </a:path>
            </a:pathLst>
          </a:custGeom>
          <a:noFill/>
          <a:ln w="6480">
            <a:solidFill>
              <a:srgbClr val="dddddd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00:29:11Z</dcterms:created>
  <dc:creator>Julian Hirst</dc:creator>
  <dc:description/>
  <dc:language>en-US</dc:language>
  <cp:lastModifiedBy>svstudent01</cp:lastModifiedBy>
  <dcterms:modified xsi:type="dcterms:W3CDTF">2007-10-19T00:02:12Z</dcterms:modified>
  <cp:revision>302</cp:revision>
  <dc:subject/>
  <dc:title>Slide 1</dc:title>
</cp:coreProperties>
</file>